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8969-B54A-4758-8CF1-2720E5628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E529-8306-4382-8251-CF4784970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lhsc.on.ca/_images/Genetics/transcript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802C-EF16-4D48-826F-704167632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nature.com/scitable/topicpage/translation-dna-to-mrna-to-protein-393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5E1F-626E-4991-ADB0-674C334FD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tokresource.org/tok_classes/biobiobio/biomenu/transcription_translation/index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0DE5-46C6-4339-B243-502242C28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3A5C-D45C-4CCC-9002-0AE19F704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303D-F90D-410B-932B-205431AEA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2F09-852F-4F48-AA02-4CA983DD9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en.wikipedia.org/wiki/File:5'_cap_structure.png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1585-050F-46B2-9D7D-396ED2249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ribonucleoprotein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urp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8A60-35D6-4711-9B15-BB60A0308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school.com/science/biology_place/biocoach/transcription/premrn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7A97-A0C1-48AD-9712-C0BF85ECC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BEB7-3CF2-499E-B02D-9F8E26E16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ritannica.com/EBchecked/media/114928/Genes-are-made-up-of-promoter-regions-and-alternating-regions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A65F-4BEE-4C0C-A83B-FE99B7859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yperphysics.phy-astr.gsu.edu/hbase/organic/transcrip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7FF2-7B3C-4530-9E3C-634B4D03F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iology.arizona.edu/molecular_bio/problem_sets/mol_genetics_of_eukaryotes/01t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38B4-F7AA-43D7-A3A3-5A24CB97C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49B1-05A5-49BC-8C6F-597A7F379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5048-420D-4114-8AEF-192B80838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andwalk.blogspot.com/2008/09/how-rna-polymerase-binds-to-dna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81D1-880C-445C-813B-DC9D77A96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5C72-B430-429C-8503-64508A5C6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dna-rna.net/2011/08/24/rna-transcription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4CBE-08B6-477C-9A34-AAB9F1B0E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508C-48F8-401B-BBD6-8F11D2215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tat.berkeley.edu/users/terry/Classes/s260.1998/Week12/week12/node5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225F-4B98-4214-8811-97FF14B05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7E24-55E9-450F-B2E5-A87431D1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F8A-7B35-467F-8834-10C78B0E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C39C-EEAE-40F0-8D35-11E1FC27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179D-1624-4DE3-B137-C36EF1D4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384-01AF-4E08-91F9-2B732EFE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9C25-5B47-4E05-86C8-C48EBAB4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647E-3BDB-46F9-888C-FF30DD04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6E4-94D6-4422-BE8F-44B200D0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F2B7-0C0A-4E89-A206-051DFC69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E09-16C7-4246-AC78-8125D6EC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4FE-D8E2-4767-93DF-1177F101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BC51-76B3-4C33-88DD-0A20C134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0DFE-D3FE-481F-96A8-8DD129D7E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98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8c93"/>
                </a:solidFill>
                <a:latin typeface="Arial"/>
              </a:rPr>
              <a:t>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Tran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pierce_13_7_large_2"/>
          <p:cNvPicPr/>
          <p:nvPr/>
        </p:nvPicPr>
        <p:blipFill>
          <a:blip r:embed="rId1"/>
          <a:srcRect l="14519" t="0" r="14519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iptio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10000000000001B1000000D9E9F2CFD4"/>
          <p:cNvPicPr/>
          <p:nvPr/>
        </p:nvPicPr>
        <p:blipFill>
          <a:blip r:embed="rId1"/>
          <a:stretch/>
        </p:blipFill>
        <p:spPr>
          <a:xfrm>
            <a:off x="685800" y="2090880"/>
            <a:ext cx="77724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animation &amp; qui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cgraw-hill.com/sites/0072507470/student_view0/chapter3/animation__mrna_synthesis__transcription___quiz_1_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y Basics” animations of transcription &amp; trans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wiley.com/college/test/0471787159/biology_basics/animations/fromGeneToProtein.sw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transcriptional Mod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-mR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 tran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karyo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 undergoes additional modifications before leaving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 of Poly(A) 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200 adenine ribonucleotides are added to the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d by poly-A poly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(A) 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s from digestion in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 of 5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7-methyl guanosin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ttachment site for 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5'_cap_structure"/>
          <p:cNvPicPr/>
          <p:nvPr/>
        </p:nvPicPr>
        <p:blipFill>
          <a:blip r:embed="rId1"/>
          <a:stretch/>
        </p:blipFill>
        <p:spPr>
          <a:xfrm>
            <a:off x="4648320" y="2333520"/>
            <a:ext cx="380988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al of In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karyo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ome consists of coding region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non-coding region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-protein complexe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lice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mRNA +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nRN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remove introns and rejoin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ice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usplice"/>
          <p:cNvPicPr/>
          <p:nvPr/>
        </p:nvPicPr>
        <p:blipFill>
          <a:blip r:embed="rId1"/>
          <a:stretch/>
        </p:blipFill>
        <p:spPr>
          <a:xfrm>
            <a:off x="1913040" y="1981080"/>
            <a:ext cx="5317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Spl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ns may be joined in different combinations to produce different but related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s how about 100 000 proteins can be produced from only around      20 000 genes in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much for 1 gene - 1 polypeptid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al of In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114896-004-A8EA44DE"/>
          <p:cNvPicPr/>
          <p:nvPr/>
        </p:nvPicPr>
        <p:blipFill>
          <a:blip r:embed="rId1"/>
          <a:stretch/>
        </p:blipFill>
        <p:spPr>
          <a:xfrm>
            <a:off x="2424240" y="1981080"/>
            <a:ext cx="429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where the DNA code is used to make a complementary mRNA st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transcbub3"/>
          <p:cNvPicPr/>
          <p:nvPr/>
        </p:nvPicPr>
        <p:blipFill>
          <a:blip r:embed="rId1"/>
          <a:stretch/>
        </p:blipFill>
        <p:spPr>
          <a:xfrm>
            <a:off x="2193840" y="3200400"/>
            <a:ext cx="4756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NA Tran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RNA is ready to leave the nucleus for translation and it is now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RNA tran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01t"/>
          <p:cNvPicPr/>
          <p:nvPr/>
        </p:nvPicPr>
        <p:blipFill>
          <a:blip r:embed="rId1"/>
          <a:stretch/>
        </p:blipFill>
        <p:spPr>
          <a:xfrm>
            <a:off x="685800" y="3813120"/>
            <a:ext cx="77724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animation summarizing post-transcriptional mod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execulink.com/~ekimmel/mrna_flas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 polymerase binds 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tmp"/>
          <p:cNvPicPr/>
          <p:nvPr/>
        </p:nvPicPr>
        <p:blipFill>
          <a:blip r:embed="rId1"/>
          <a:stretch/>
        </p:blipFill>
        <p:spPr>
          <a:xfrm>
            <a:off x="4906800" y="1981080"/>
            <a:ext cx="329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er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tream of the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 site for RNA polymerase to bind to th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TA bo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 eukaryotes): high in adenine and thymine (less energy needed to break 2 H-b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have TATAAT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 polymerase opens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zes 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ribonucleotides from 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rna-transcription2"/>
          <p:cNvPicPr/>
          <p:nvPr/>
        </p:nvPicPr>
        <p:blipFill>
          <a:blip r:embed="rId1"/>
          <a:stretch/>
        </p:blipFill>
        <p:spPr>
          <a:xfrm>
            <a:off x="4648320" y="2092320"/>
            <a:ext cx="38098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ate st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NA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make the complementary mRNA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ng str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DNA has the same sequence as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 stops a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 seq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mRNA is rel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img5"/>
          <p:cNvPicPr/>
          <p:nvPr/>
        </p:nvPicPr>
        <p:blipFill>
          <a:blip r:embed="rId1"/>
          <a:stretch/>
        </p:blipFill>
        <p:spPr>
          <a:xfrm>
            <a:off x="4648320" y="2021040"/>
            <a:ext cx="38098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tion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binding to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forms hairpin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uracil site on mRNA binds to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0:33:12Z</dcterms:created>
  <dc:creator>rubina khan</dc:creator>
  <dc:description/>
  <dc:language>en-US</dc:language>
  <cp:lastModifiedBy>rubina khan</cp:lastModifiedBy>
  <dcterms:modified xsi:type="dcterms:W3CDTF">2017-03-29T14:01:03Z</dcterms:modified>
  <cp:revision>162</cp:revision>
  <dc:subject/>
  <dc:title>Molecular Genetics</dc:title>
</cp:coreProperties>
</file>